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A51-1B6D-4825-8534-2951B749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373-C1ED-4506-9D7C-BCECCBFF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089-B476-427D-8046-44053B21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4D7-16FA-4F7C-9370-EA10C222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CB7B-B389-4A60-A377-25188993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D78-E144-45D6-A211-4C53D0B7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A873-6CCA-4653-82F2-270DA6F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E7A9-E563-4EAC-B955-9C9D8FD9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215-7BB6-4FCC-914C-4A349C92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C179-6491-461D-9346-7F48A0EE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601B-D8E2-41AC-9E23-B331C58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9FE-303E-410A-A9AB-6F4B65BF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8961-76B4-4FC4-97E9-71F0FE4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CC2D-9D11-4961-A8EC-124D270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071-C148-443A-90FC-EDF2853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4F36-3541-4772-A2FD-1B5C6B2F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A7DC-21EE-4F1B-9F48-EC29640C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D2D-E256-4217-AED8-FF66FF1C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5B6-D02B-46C0-ACA4-22640260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FEB-10AB-4139-8779-E4F6F562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AE8-1081-4850-951D-2429D0F8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91C-CF2E-4E0F-A1B3-3DA6EE2F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BBC-E68A-4622-B2E7-5B10B1F6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314-A80B-495F-B016-07A5D39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30C-06D8-4888-96AB-D8310D3CA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F784-EEC1-42E9-942E-368563967F6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otte Danielson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our Domains of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aching Responsibilit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8896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a: Demonstrating Knowledge of Content and Pedag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b: Demonstrating Knowledge of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c: Selecting Instructional Go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d: Demonstrating Knowledge of Resour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e: Designing Coherent Instr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f: Assessing Student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057400"/>
            <a:ext cx="8896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a: Creating an Environment of Respect and Rappor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b: Establishing a Culture for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c: Managing Classroom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d: Managing Student Behavi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e: Organizing Physical Spa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1981080"/>
            <a:ext cx="889632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a: Communicating Clearly and Accurate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b: Using Questioning and Discussion Techn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c: Engaging Students in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d: Providing Feedback to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e: Demonstrating Flexibility and Responsiven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2133720"/>
            <a:ext cx="889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a: Reflecting on Teach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b: Maintaining Accurate Record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c: Communicating with Famil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d: Contributing to the School and Distri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e: Growing and Developing Professional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f: Showing Professionalis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2:57:56Z</dcterms:created>
  <dc:creator>Registered User</dc:creator>
  <dc:description/>
  <dc:language>en-US</dc:language>
  <cp:lastModifiedBy>Karen Verkler</cp:lastModifiedBy>
  <dcterms:modified xsi:type="dcterms:W3CDTF">2014-10-24T07:26:35Z</dcterms:modified>
  <cp:revision>3</cp:revision>
  <dc:subject/>
  <dc:title>The Four Domains of  Teaching Responsibility</dc:title>
</cp:coreProperties>
</file>